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923-5AF4-4BC7-893B-C6BDFCAB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CA5-C773-468F-880E-E6A8F1A0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92E-380D-48F6-B9FF-E1205928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82A-D069-4753-A8AB-79DB6C46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BEFE-C80D-465A-A2A1-4D21773B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8B7D-4567-4CB1-BB0C-E6EB8B64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2E08-9115-47B0-B7DF-4B77C65C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1CA3-FA09-4792-8E71-E3B504EC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D7BC-E784-41D7-A710-CADBCD7D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37FE-3F41-4547-9080-3C29C785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2525-515F-4835-8A08-1A8F8E64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639-C656-4ADA-A80A-661AC8CD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8F9C-CA85-4DEB-9D20-A8F743F9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6955-A77D-4C76-A4E7-6528265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E17F-F142-49C1-BEFA-A9ED3E97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CB56-DF4E-46C6-A127-237D0D2E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B2EB-8FB1-4D50-97BF-7CBD9695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5FE-FC13-4AE2-99F8-D813B5C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4B0-E517-4BAF-9955-6B11FD8D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8F0-F041-411E-BCC5-3E9298DB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041-DDF2-4EAA-994E-DADB4A53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CB0-BBE4-45F0-B664-46BB1989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500-D707-401A-9455-6ACB6C07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7E5-EFA6-4EC4-92C4-EC992871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38880" y="6520320"/>
            <a:ext cx="1905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D1D3-34C2-419E-AA6C-605521E0863E}" type="slidenum">
              <a:rPr b="1" lang="en-US" sz="1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C9B6-583F-4438-BC48-269EC55D78F6}" type="slidenum"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1600200"/>
            <a:ext cx="800100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5762-B409-402D-AF52-6344A417B33F}" type="slidenum"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743200"/>
            <a:ext cx="769608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NT21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ure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/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aging the Serv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 the normal values of performance statis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lt the current statistics when problems a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istics justify capacity planning before disaster sets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alling the Net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essional installation needed for large offices ( &gt;10 stati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ufactured cables may be more reliable than hand-roll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cabling of the existing network before making chan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intaining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ewalls (not covered in this clas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deoff:  more security, less “friendly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written and understandable poli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t management buy-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tecting D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up must occur night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e a written plan, make sure its execu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up is not sexy, until disaster strik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ware fail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 fail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urity fail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r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cumenting the Net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rely on your mem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documentation makes increasing staff easier and vacation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cable should be identified on both e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b-level wiring diagram should be kept curr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r manager requir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urate inventory including serial numb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ords for maintenance contracts and le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pporting Network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alling software over the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are the help de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e user workstation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ining 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anet help pages (local FAQ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.4  Planning and Installing Network Med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Characteristics of 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magnetic Interference (EM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ndwid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a Ty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a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T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b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r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Mbit is about the limit of bandwidth for UTP Cat5” (p. 52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00BaseT will use Cat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Ethernet NICs are less than $100” (p. 7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$20 is the street price for Ethernet N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on Characteristics of Med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Electromagnetic Interference (EMI) Sensi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Bandwid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C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single media fits all problem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tromagnetic Interference (EMI) Sensitiv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y dynamic magnetic field causes static in copper LAN c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.g. Florescent lights, electric motors, light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 cables produce a magnetic field (rad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us a risk exists of clandestine re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all-fiber optic network can be substitu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use of completely encrypted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mpus safety and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hor Eric S. Raymond on camp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2000 upd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sit CNT 211 webs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lecture #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.3  Your Job as Administr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.4  Planning and Installing Network 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b shakedown exerc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ndwid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one talks about it, nobody does anything about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P Cat 4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20Mbit/sec in full duplex m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P Cat 5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100Mbit sec in half duplex m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anding applications for bandwid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conferenc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er-to-server communications (e.g. clus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ckup over the net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Bandwid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ba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entire bandwidth is devoted to one data signal (UT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ba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bandwidth carries multiple signals simultaneously, receiver “tunes” in (cable TV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-made cost 3 to 10 times as much as hand roll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om $20 to $200 (server rat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ve (chea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witched (mediu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aged (high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Med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ax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ielded Twisted Pair (ST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shielded Twisted Pair (UT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ber-op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axial c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G-11, RG-8: obsolete “thick” coa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G-58:  thinnet, BNC, 10Base2 (see pictu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G-59:  TV cable, broadband 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CoaxPatch" descr=""/>
          <p:cNvPicPr/>
          <p:nvPr/>
        </p:nvPicPr>
        <p:blipFill>
          <a:blip r:embed="rId1"/>
          <a:stretch/>
        </p:blipFill>
        <p:spPr>
          <a:xfrm>
            <a:off x="4876920" y="3649680"/>
            <a:ext cx="40003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G-58 “thinnet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ielded for EMI resist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iable if not alte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s topology is difficult to add/remove st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nd-rolled cables can be bal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less at speeds above 10Mb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hielded Twisted Pair (ST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insulated wires twisted toge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for token r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t-in EMI cancel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rdy and du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100% EMI-proo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l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p speed usually 16Mb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shielded Twisted Pair (UT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pairs, no shield, RJ-45 conn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grades of cable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be wired profession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TP Cat5 recommended for all new insta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ColorPatch" descr=""/>
          <p:cNvPicPr/>
          <p:nvPr/>
        </p:nvPicPr>
        <p:blipFill>
          <a:blip r:embed="rId1"/>
          <a:stretch/>
        </p:blipFill>
        <p:spPr>
          <a:xfrm>
            <a:off x="5029200" y="3848040"/>
            <a:ext cx="3809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TP “Categories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 1:  Voice-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 3:  10Mbit Ethernet or 16Mbit Token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 4:  20Mbit (full duplex) Eth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 5:  100Mbit+ bandwid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 7:  2.4GBit for ATM equip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TP:  Pros and C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inexpensive cab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ghtweight and compa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allation straightforw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EMI potential (see Cat 5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gabit standards not fully accep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mpus safety and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scort Servic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Staff, Students and guests may request a security escort from any location on campus to any other location on campus by                    contacting the Office of Campus Safety and Security at extension #341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otorist Assis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Security staff will provide vehicle jump-start assistance.  leave their lights on, etc. The Office of Campus Safety and                      Security will help you call for a tow truck. 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http://www.wccnet.org/admin/security/service.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ber-Opt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cables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53452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ber-Opt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st:  1GBit+ r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r:  100s of mi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I:  None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:  most expensive but can be justif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er-to-server communic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ng haul campus interconn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Ns in gen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nd long-term invest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of Fiber-Opt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ble cost similar to Cat5 in bul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ber NIC cards about $2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e to $20 for Cat5 NI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2-port hub $1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e to $100 for Cat5 hu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pper vs. Fib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ber takes less space in the condu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ber is immune to EMI and eavesdropp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ber is corrosion proof and reli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ber bandwidth considered unlimi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ber is forever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 of Cable Characterist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33480" y="1762200"/>
          <a:ext cx="7969320" cy="42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762200"/>
                    <a:ext cx="796932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reless Med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tical Link:  infrared or las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F (“Radio”) Link:  microwave, UH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often used when public right-of-way prevents cab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tical Lin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ilar to IR ports used on lapto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rge room optical link uses infr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int-to-point laser link between build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ndwidth low considering the cost (&lt;5Mbi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F 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read Spectr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multiple frequencies simultaneous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licensed frequencies “free for all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work through wa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8Ghz Cellu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orola proprietary, licensed nationw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ybrid of wires/wirel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polo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topologies based on bus or point-to-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all devices hear the sig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-to-Po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wo devices on the end of a w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kind of topology are the follow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allel 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use 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CI, I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s Net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54864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 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548640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 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548640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 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ices connect to the bus in “T” jun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ways terminated on both e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often used with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n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bus segment shown below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666880" y="4876560"/>
            <a:ext cx="0" cy="60948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72000" y="4876560"/>
            <a:ext cx="0" cy="60948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477120" y="4876560"/>
            <a:ext cx="0" cy="60948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876920"/>
            <a:ext cx="6095880" cy="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58200" y="548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8" idx="0"/>
          </p:cNvCxnSpPr>
          <p:nvPr/>
        </p:nvCxnSpPr>
        <p:spPr>
          <a:xfrm flipV="1" rot="16200000">
            <a:off x="7566480" y="5005440"/>
            <a:ext cx="915120" cy="656640"/>
          </a:xfrm>
          <a:prstGeom prst="curvedConnector5">
            <a:avLst>
              <a:gd name="adj1" fmla="val 49980"/>
              <a:gd name="adj2" fmla="val 49972"/>
              <a:gd name="adj3" fmla="val 49980"/>
            </a:avLst>
          </a:prstGeom>
          <a:ln w="4428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7556040" y="57913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ic S. Raymo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hor and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pen Sourc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ur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pen Sour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how it will affect 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hor of “The Cathedral and the Bazaar”, the paper that convinced Netscape to release its source code to the 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d., Jan. 19th at 7:30PM in Morris Laurence Bldg., WCC camp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onsored by Washtenaw Linux Users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http://www.lugwash.org/meeting.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int-to-Point Lin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f-dupl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one device talks then “turns over” the chann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-dupl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both devices can send messages in either direction simultaneously (see pi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wo-pair wiring, this is done by dedicating one pair to transmit each 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480060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 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8006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 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5029200"/>
            <a:ext cx="4191120" cy="0"/>
          </a:xfrm>
          <a:prstGeom prst="line">
            <a:avLst/>
          </a:prstGeom>
          <a:ln w="792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743200" y="5715000"/>
            <a:ext cx="4114800" cy="0"/>
          </a:xfrm>
          <a:prstGeom prst="line">
            <a:avLst/>
          </a:prstGeom>
          <a:ln w="792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5360" y="4572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50680" y="4572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6640" y="56386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5360" y="5791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ding Networks with bus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nects multiple bu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ridge may include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witc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te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c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55627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56272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556272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438280" y="5181120"/>
            <a:ext cx="0" cy="38124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5181120"/>
            <a:ext cx="0" cy="38124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5181480"/>
            <a:ext cx="6095880" cy="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29600" y="556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2895480"/>
            <a:ext cx="1447920" cy="10670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2895480"/>
            <a:ext cx="1447920" cy="10670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2895480"/>
            <a:ext cx="1447560" cy="10670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6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362320" y="3962520"/>
            <a:ext cx="0" cy="30456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3962520"/>
            <a:ext cx="0" cy="30456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172200" y="3962520"/>
            <a:ext cx="0" cy="30456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4267080"/>
            <a:ext cx="6095880" cy="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4495680"/>
            <a:ext cx="1828800" cy="381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4191120"/>
            <a:ext cx="0" cy="30456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809880" y="4876920"/>
            <a:ext cx="0" cy="30456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Token) Ring Networ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device can receive from one neighbor and transmit to one neighb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54864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27432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55627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274320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581280"/>
            <a:ext cx="2133720" cy="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3733920"/>
            <a:ext cx="0" cy="182880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123720" y="5715000"/>
            <a:ext cx="2210040" cy="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819520" y="3809520"/>
            <a:ext cx="0" cy="167652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256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4160" y="31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21680" y="5029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716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9080" y="5257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716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8880" y="5257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21680" y="38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r Net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machines connect to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54864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7432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55627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274320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3581280"/>
            <a:ext cx="914400" cy="76212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343400" y="3733920"/>
            <a:ext cx="1295280" cy="60948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419720" y="4952520"/>
            <a:ext cx="914400" cy="76212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819520" y="4952880"/>
            <a:ext cx="1143000" cy="53352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4343400"/>
            <a:ext cx="10666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antages of Star Topolo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sy to expand without disrupting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d devices can be isol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d hub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low remote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way to go for UTP Cat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ysical vs. logical topolo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not rely on just cabling to guess the top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network wired as a star could be functioning as a ring (p. 6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network wired as a star could be functioning as a bus (p. 6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ce is due to the switch wiring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inside the h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about hub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unpowered, useful only for token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powered and may have some signal processing functions (see l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plif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haping/retiming of distorted sign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blem de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d performance and error repo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ing hub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crease total bandwid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d hub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llow remote contr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witching Hubs (p. 7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llows private point-to-point connections between two pe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point-to-point connection enjoys 100% of the bandwidth, not just a share of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57913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37339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57913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7339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3962520"/>
            <a:ext cx="1524240" cy="76176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800240" y="4038480"/>
            <a:ext cx="2133720" cy="68580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029200" y="5562720"/>
            <a:ext cx="1905120" cy="76176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438280" y="5562360"/>
            <a:ext cx="1676520" cy="60948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4724280"/>
            <a:ext cx="16002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witching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4952880"/>
            <a:ext cx="457200" cy="762120"/>
          </a:xfrm>
          <a:prstGeom prst="upDownArrow">
            <a:avLst>
              <a:gd name="adj1" fmla="val 50000"/>
              <a:gd name="adj2" fmla="val 3318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6560" y="5105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4876920"/>
            <a:ext cx="457200" cy="761760"/>
          </a:xfrm>
          <a:prstGeom prst="upDownArrow">
            <a:avLst>
              <a:gd name="adj1" fmla="val 50000"/>
              <a:gd name="adj2" fmla="val 33169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5240" y="5029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83480" y="621360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200% utilization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aged Hub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chnologies for controlling Managed Hu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NMP:  Simple Network Management Protoc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b-based interfaces including 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in via Telnet cl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ment fea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able/disable one port at a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ather/report statistics in real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N control and routing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MON: Remote MONitoring protoc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l’s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evice View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for Managed Hub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idvstats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n2000 pricing announc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ows 2000 is $319 (same as NT 4.0 Workst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grade price from Windows NT is $149 or   $219 from Windows 95 or 98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ve-user upgrade version of Windows 2000 Server will cost $499 or $999 for the full retail ver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10-user version will go for $1199 o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$599 as an upgrade from Windows NT or Novell NetWar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ub Technologies Compari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1752480"/>
          <a:ext cx="8136000" cy="504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1360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N Cabling Standar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E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International Electrical and Electronics Engine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EEE LAN Standards Committee (“802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02.2 Logical Link Control (LLC) lay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02.3 IEEE Eth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02.3z 1000Bas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02.5 IEEE Token 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International Standards Organ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O 9314: Fiber Distributed Data Interfa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DD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es back to 1970s at Xero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ized 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EE 802.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ginally used with coax (RG-11, RG-8, RG-58) but now embraces all 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p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technology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SMA/C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rier Sense Multiple Access with Collision De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isten Before Talking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rrier Sense Multiple Access with Collision Detection (CSMA/C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rier Sen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listens to see if network is bu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it is busy, then it will wait a while and try ag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Acc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implies simultaneous 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stop talking if someone else starts tal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se in line voltage indicates “collisio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a collision, wait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time perio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efore re-transmi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domness avoids deadlo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does CSMA/CD wor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ames are small: 1,518 bytes (~12Kbi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ndwidth is large:  10Mbits 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ffic load ca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ev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ach 10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accept constant loads up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%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pac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accept traffic bursts up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pac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ilistic access contro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means there i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o guarante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hen you can get th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ken ring provides predictable delivery r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thernet Cab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 Ethernet (10Base5)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no longer u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 Ethernet (10Base2)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coax with BN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sted-Pair Ethernet (10BaseT)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r wiring topology which requires hubs and UTP c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10 means 10Mbit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er variants a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Base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100Mbit)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0Ba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1000Mbit or 1GBi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Base2 / 10Base5 limi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s topologies always have a max number of devices that can be suppor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to double maximum length lim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g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ust be used to link seg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a segment grows too long, it must be spl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a segment has too many devices, it must be spl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NC T-connectors mean cables must be cut to insert a new de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arison of 10Base5 and 10Base2 (p. 7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915840" y="1795320"/>
          <a:ext cx="7986960" cy="42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795320"/>
                    <a:ext cx="798696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wisted-Pair (10BaseT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shielded Twisted Pair (UTP), Cat5 prefer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ires star topology based on hu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ior reconfiguration and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types of cabling required (p. 7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ight-thr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connects device to hu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over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“X”):  connects hub-to-hub or point-to-point (2-station netwo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0Bas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BaseTX: uses UTP Cat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omai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longest network you can build without switches, bridges, or rout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BaseT can run 2500m (1.5mi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0BaseT can run 250m (820 fee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will probably u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l-speed (10/100) switch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allow 10BaseT and 100BaseT to coex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visit CNT 211 Website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ttp://www.HAL9K.com/cnt21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0VG-Any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P and IEEE 802.12 stand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an Ethernet in the signalling s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 Based Priority Acc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moderate coll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eds size limits of 100B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s Ethernet and token ring fr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in very widespread 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BM and IEEE 802.5 stand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nobody likes Token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ICs and hubs cost 8x as much as Eth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’t escape its proprietary 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aging token ring requires software too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-Mbit speed lim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you might have to us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istic access contro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suitable 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e.g. factory floor) oper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BM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gacy 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ken-based Access Contro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k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 special type of data frame that circulates around the logical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54864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274320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5562720"/>
            <a:ext cx="144756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2743200"/>
            <a:ext cx="1447920" cy="10666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chine 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3581280"/>
            <a:ext cx="2133720" cy="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3733920"/>
            <a:ext cx="0" cy="182880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123720" y="5715000"/>
            <a:ext cx="2210040" cy="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819520" y="3809520"/>
            <a:ext cx="0" cy="167652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256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4160" y="31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21680" y="5029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716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9080" y="5257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716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8880" y="5257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21680" y="38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3581280"/>
            <a:ext cx="1066680" cy="9907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9456800">
            <a:off x="3051000" y="3809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k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ken Access Control Ru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device can transmit only when its in possession of the to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must wait until the token arr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the device transmits data, its token is released to the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is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um transmission uni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MTU) to prevent over-utiliz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ing Error Monitor (REM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your referee since all stations are eq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les lost tokens and initial to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ls what to do if data stops flow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ies frames bound for systems which are off-the-network or d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BM Cabling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EEE 802.5 does not specify cab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BM jacks allow ring to remain unbroken when unplugged (p. 77-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token rings use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r topology and the hub implements t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gic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228 MSAU (Multi Station Access Unit) is a passive h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U (Controlled Access Unit) is active h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ken ring limi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 to 260 devices and 33 MSAUs in a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gment can be up to 100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ers can extend the leng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s STP (Type 1 and 2) and U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Mbit and 16Mbit are only speeds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ber Distributed Data Interface (FDDI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DDI drivers included with Windows 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DDI is 100Mbit that functions like token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DDI networks often use two rings to route frames in opposite directions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l-attach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often used 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ckb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ecause the rings can run up to 100km (60 mil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esn’t handle workstations being turned on and off very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illustration p.8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uctured Cabling Syst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more than 3 dozen PCs are involved, cabling becomes a nightmare spaghet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 cabling pulls all wires into centralized wiring closets (one per floo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k pane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re installed in all cubic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ring ends at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ch pan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is fed in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k-mounted hub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24 or more por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ways professionally installed and use miles of c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ntrators and Stackable Hub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or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allow several types of media to be integrated in the wiring clo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andable by adding media-specific plug-in c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ckable Hub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signed to work toge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cade por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onnects like hubs toge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agement information can be accumulated or sha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view Lecture #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anning Network Cab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any computers now?  Next yea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all bandwidth requir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al barri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 drop areas for transient 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ions of hubs or termin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dges to connect bus seg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icies and proced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alling Network Cab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 time is when building is under construction or before move-in d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buying a cable tester and cable making to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eways can be used where ceilings are not open to c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try to do fiber installation yoursel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. 4 Review ques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methods can be used to improve fault tolerance on a serv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ituations might require you to restore a backu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ype of network is STP media used f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baseband and broadban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ype of media would you choose if EMI suceptibility is the primary concer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. 4 Review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media might you use to link two offices in adjacent skyscrap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makes bus topology different than point-to-poi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two busses talk to each oth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would you choose 100VG-AnyLAN over 100Base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reasons why not to choose Token R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a backbone and what type of media is appropriate for 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b shakedown exerci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 up Ghost diskettes for every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tore default NT Server setups from the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ify that the NT Server is restored 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ve the student's work up to the net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ick tour of NT Administration too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ows NT “Diagnostic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.3  Your Job as Administrat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alling Serv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ing Serv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ing the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ing Network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tecting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cumenting the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ing and Training 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alling Serv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makes a “server”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rge amounts of RAM (256MB - 1024MB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rge hard disk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MP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ult Toler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roving Fault Tole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nterruptable Power Supplies (UP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rror Correcting Memory (EC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twork ale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01:20:53Z</dcterms:created>
  <dc:creator>Marian Volkman</dc:creator>
  <dc:description/>
  <dc:language>en-US</dc:language>
  <cp:lastModifiedBy>Victor R. Volkman</cp:lastModifiedBy>
  <dcterms:modified xsi:type="dcterms:W3CDTF">2000-01-20T02:30:01Z</dcterms:modified>
  <cp:revision>25</cp:revision>
  <dc:subject/>
  <dc:title>CNT211</dc:title>
</cp:coreProperties>
</file>